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B65E-E930-4480-BBEA-C1D9F321B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3535-BC57-4FC4-A92F-27FEACC8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535E-836A-4787-B6D9-07C841174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1BA9-C1FA-452B-BF6D-EBBEAC7E6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1A9F-6096-4DFF-ADF8-C56508D9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4E33-076A-4FD1-B9A6-35E9AC83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6D06-46DE-439D-A3D4-C5C722BC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F166-D9FA-4035-8619-6E1F3B72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8AAE-6FA3-4FA0-A778-6E229E59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DB4F-D730-4786-87DC-0C50B0B9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90B1-9C48-473A-8FA9-FBF49ABF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9805-72CF-4211-B667-B78FD62C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E014-E789-418A-B5BE-3F613338D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om/imgres?q=chicago,+Illinois&amp;hl=en&amp;safe=active&amp;sa=X&amp;rls=com.microsoft:en-us:IE-SearchBox&amp;biw=1024&amp;bih=614&amp;tbm=isch&amp;prmd=imvns&amp;tbnid=eqdbpLjFwZZZUM:&amp;imgrefurl=http://storagelocations.com/chicago-IL-self-storage.html&amp;docid=WReV-gtbzwgJvM&amp;imgurl=http://www.storagelocations.com/cityimages/chicago.jpg&amp;w=551&amp;h=416&amp;ei=M57CTu2WI-Pi2QXWmM3EDg&amp;zoom=1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oogle.com/imgres?q=navy+pier+ferris+wheel+in+chicago&amp;hl=en&amp;safe=active&amp;rls=com.microsoft:en-us:IE-SearchBox&amp;biw=1024&amp;bih=614&amp;tbm=isch&amp;tbnid=1Ijukm9ZcoQmxM:&amp;imgrefurl=http://www.visualphotos.com/image/2x3432151/ferris_wheel_lit_up_at_night_navy_pier_park&amp;docid=hyMRkU49-IshBM&amp;imgurl=http://www.visualphotos.com/photo/2x3432151/Ferris_wheel_lit_up_at_night_Navy_Pier_Park_gwj5799403.jpg&amp;w=700&amp;h=486&amp;ei=PaDCTv73O8Oo2wWAxtm6Dg&amp;zoom=1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q=wrigley+field+chicago&amp;hl=en&amp;safe=active&amp;rls=com.microsoft:en-us:IE-SearchBox&amp;biw=1024&amp;bih=614&amp;tbm=isch&amp;tbnid=lye7rfDDkAxNRM:&amp;imgrefurl=http://en.wikipedia.org/wiki/Wrigley_Field&amp;docid=GvWnkcmfg5P2aM&amp;imgurl=http://upload.wikimedia.org/wikipedia/commons/thumb/9/9f/Wrigley_field_720.jpg/300px-Wrigley_field_720.jpg&amp;w=300&amp;h=198&amp;ei=8Z_LTo7eAsTW0QHq0oUI&amp;zoom=1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q=Ritz+Carlton+Chicago&amp;hl=en&amp;safe=active&amp;rls=com.microsoft:en-us:IE-SearchBox&amp;biw=1024&amp;bih=614&amp;tbm=isch&amp;tbnid=LKw3YOr3Hl_uZM:&amp;imgrefurl=http://chicagorc.fourseasons.com/edition/edition/september-2011/&amp;docid=s_lYul3QRhbxhM&amp;imgurl=http://www.fourseasons.com/media_library/published/blogs/property.10/default.jpg&amp;w=630&amp;h=240&amp;ei=0KHCTqRmxezYBYudxN4O&amp;zoom=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/imgres?q=Chicago,+Illinois&amp;hl=en&amp;safe=active&amp;rls=com.microsoft:en-us:IE-SearchBox&amp;biw=1024&amp;bih=614&amp;tbm=isch&amp;tbnid=pSWY4ydW0H_L7M:&amp;imgrefurl=http://www.discounthotelsavings.com/hyatt/hyatt-regency-hotel-chicago-illinois.htm&amp;docid=LK6Get7wyc-86M&amp;imgurl=http://www.discounthotelsavings.com/hyatt/images/hyatt-regency-hotel-chicago-illinois-1.jpg&amp;w=398&amp;h=277&amp;ei=zaLCTqirOam42wWBv4TDDg&amp;zoom=1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google.com/imgres?q=Chicago,+Illinois&amp;hl=en&amp;safe=active&amp;rls=com.microsoft:en-us:IE-SearchBox&amp;biw=1024&amp;bih=614&amp;tbm=isch&amp;tbnid=-9FkdvWVjVTmZM:&amp;imgrefurl=http://greatwallonline.com/photograph/chicago-illinois-wall-mural.html&amp;docid=pwbdv3bxiHiFMM&amp;imgurl=http://greatwallonline.com/media/catalog/product/cache/1/image/9df78eab33525d08d6e5fb8d27136e95/c/h/chicago_illinois_wall_mural.jpg&amp;w=576&amp;h=384&amp;ei=zaLCTqirOam42wWBv4TDDg&amp;zoom=1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google.com/imgres?q=Chicago,+Illinois+at+night&amp;hl=en&amp;safe=active&amp;rls=com.microsoft:en-us:IE-SearchBox&amp;biw=1024&amp;bih=614&amp;tbm=isch&amp;tbnid=O89JVUjdHc8miM:&amp;imgrefurl=http://www.allposters.com/-sp/Night-Cityscape-Chicago-Illinois-USA-Posters_i1709947_.htm&amp;docid=XAaqD3gi70tgYM&amp;imgurl=http://imgc.allpostersimages.com/images/P-473-488-90/16/1609/CQIFD00Z/posters/panoramic-images-night-cityscape-chicago-illinois-usa.jpg&amp;w=473&amp;h=156&amp;ei=BKTCTsihOsiM2gWrnaXdDg&amp;zoom=1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q=Ritz+Carlton+swimming+pool&amp;hl=en&amp;safe=active&amp;rls=com.microsoft:en-us:IE-SearchBox&amp;biw=1024&amp;bih=614&amp;tbm=isch&amp;tbnid=_gTUEI35DqWoSM:&amp;imgrefurl=http://www.jitourism.com/ritz-carlton-hotelpudong-luxury-destination-place-in-shanghai-china/&amp;docid=8_CMlVrNQupmQM&amp;imgurl=http://www.jitourism.com/wp-content/uploads/2011/10/Swimming-Pool-Arena-In-Ritz-Carlton-HotelPudong.jpg&amp;w=585&amp;h=385&amp;ei=6aTCTvjsPIS62wXa-_TKDg&amp;zoom=1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google.com/imgres?q=Ritz+Carlton&amp;hl=en&amp;safe=active&amp;rls=com.microsoft:en-us:IE-SearchBox&amp;biw=1024&amp;bih=614&amp;tbm=isch&amp;tbnid=BethTI1_e_qTIM:&amp;imgrefurl=http://www.travelandleisure.com/travel-guide/buckhead/hotels/ritz-carlton-buckhead-atlanta&amp;docid=zlzeqx8eJaArSM&amp;imgurl=http://static3.travelandleisure.com/images/amexpub/0010/1331/tl500-a-usa-ritz-buckhead.jpg&amp;w=298&amp;h=300&amp;ei=naXCTuCQH8S62wXCjInrDg&amp;zoom=1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m/imgres?q=chicago+food&amp;hl=en&amp;safe=active&amp;sa=X&amp;rls=com.microsoft:en-us:IE-SearchBox&amp;biw=1024&amp;bih=614&amp;tbm=isch&amp;prmd=imvnsul&amp;tbnid=ztVfVLu9fFNXbM:&amp;imgrefurl=http://www.badmamagenny.com/2009/02/05/a-tribute-and-guide-to-chicago-food/&amp;docid=cGCI6NUo5MHIYM&amp;imgurl=http://www.badmamagenny.com/wp-content/uploads/2009/02/chicago-pizza-full1.jpg&amp;w=800&amp;h=532&amp;ei=5JzLTuvTM8bY0QGLovjoDw&amp;zoom=1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google.com/imgres?q=chicago+food&amp;hl=en&amp;safe=active&amp;sa=X&amp;rls=com.microsoft:en-us:IE-SearchBox&amp;biw=1024&amp;bih=614&amp;tbm=isch&amp;prmd=imvnsul&amp;tbnid=CC7ElAy_ceew4M:&amp;imgrefurl=http://www.merchantcircle.com/business/Zs.Restaurants.602-765-1822&amp;docid=4Dqm3HDimlOtVM&amp;imgurl=http://media.merchantcircle.com/14834232/chicago_dog_full.jpeg&amp;w=287&amp;h=200&amp;ei=5JzLTuvTM8bY0QGLovjoDw&amp;zoom=1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om/imgres?q=john+hancock+building+chicago+il&amp;hl=en&amp;safe=active&amp;rls=com.microsoft:en-us:IE-SearchBox&amp;biw=1024&amp;bih=614&amp;tbm=isch&amp;tbnid=kFxcDweLVpWcTM:&amp;imgrefurl=http://www.glasssteelandstone.com/PrinterFriendlyBuildingDetail.php%3FBuildingName%3DJohn%2520Hancock%2520Center%2520(Chicago)%26LocationCity%3DChicago%26LocationState%3DIllinois%26LocationNation%3DUnited%2520States&amp;docid=e1QPJIAnAfD0pM&amp;imgurl=http://www.glasssteelandstone.com/Images/US/Chicago1/GoldCoast/JohnHancockCenter-007.jpg&amp;w=300&amp;h=400&amp;ei=x53LTtfQGeXz0gGU6eUj&amp;zoom=1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com/imgres?q=resturants+in+chicago&amp;hl=en&amp;safe=active&amp;rls=com.microsoft:en-us:IE-SearchBox&amp;biw=1024&amp;bih=614&amp;tbm=isch&amp;tbnid=jz3hfEAUfNtTjM:&amp;imgrefurl=http://chicagoweekendfun.com/2008/06/19/3-new-patio-dining-restaurants-in-chicago-francescas-perennial-and-wave/&amp;docid=zSv1OmIhLU92fM&amp;imgurl=http://www.quattrocaffe.com/images/patioarea.jpg&amp;w=711&amp;h=491&amp;ei=Y57LTvLXJubr0gGGu8Uk&amp;zoom=1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google.com/imgres?q=restaurants+in+chicago+illinois&amp;hl=en&amp;safe=active&amp;rls=com.microsoft:en-us:IE-SearchBox&amp;biw=1024&amp;bih=614&amp;tbm=isch&amp;tbnid=us_3gS2PhGrlqM:&amp;imgrefurl=http://www.trails.com/list_14548_japanese-restaurants-chicago-illinois.html&amp;docid=ko_auwuO8QizsM&amp;imgurl=http://cdn-www.trails.com/imagecache/articles/295x195/japanese-restaurants-chicago-illinois-295x195.png&amp;w=295&amp;h=195&amp;ei=_p7LTvigE6rr0gGQxZkX&amp;zoom=1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ine Feri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Anna Pasaj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h bin in Navy Pier gegang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rg_hi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2362320"/>
            <a:ext cx="2904840" cy="2195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029200" y="2209680"/>
            <a:ext cx="2276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ch habe die Ferris Wheel fotografie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rg_hi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3124080"/>
            <a:ext cx="3962520" cy="2745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486400" y="1981080"/>
            <a:ext cx="20797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bin gewander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Wriggly Field geseh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rg_hi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2209680"/>
            <a:ext cx="2895480" cy="1906560"/>
          </a:xfrm>
          <a:prstGeom prst="rect">
            <a:avLst/>
          </a:prstGeom>
          <a:ln w="0">
            <a:noFill/>
          </a:ln>
        </p:spPr>
      </p:pic>
      <p:pic>
        <p:nvPicPr>
          <p:cNvPr id="75" name="rg_hi" descr=""/>
          <p:cNvPicPr/>
          <p:nvPr/>
        </p:nvPicPr>
        <p:blipFill>
          <a:blip r:embed="rId3"/>
          <a:stretch/>
        </p:blipFill>
        <p:spPr>
          <a:xfrm>
            <a:off x="5105520" y="2286000"/>
            <a:ext cx="297180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finde mein fieren gefall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 soll in Chicago geh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war in Illinoi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ch war in Ritz Carlto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rg_hi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2743200"/>
            <a:ext cx="523872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ffffff"/>
            </a:gs>
            <a:gs pos="100000">
              <a:srgbClr val="66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h war in Chicag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rg_hi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905120"/>
            <a:ext cx="3200400" cy="2224080"/>
          </a:xfrm>
          <a:prstGeom prst="rect">
            <a:avLst/>
          </a:prstGeom>
          <a:ln w="0">
            <a:noFill/>
          </a:ln>
        </p:spPr>
      </p:pic>
      <p:pic>
        <p:nvPicPr>
          <p:cNvPr id="49" name="rg_hi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10080" y="1981080"/>
            <a:ext cx="3124440" cy="2078280"/>
          </a:xfrm>
          <a:prstGeom prst="rect">
            <a:avLst/>
          </a:prstGeom>
          <a:ln w="0">
            <a:noFill/>
          </a:ln>
        </p:spPr>
      </p:pic>
      <p:pic>
        <p:nvPicPr>
          <p:cNvPr id="50" name="rg_hi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295280" y="4952880"/>
            <a:ext cx="624852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h bin viel schwimmen gegangen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rg_hi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752480"/>
            <a:ext cx="3200400" cy="2103480"/>
          </a:xfrm>
          <a:prstGeom prst="rect">
            <a:avLst/>
          </a:prstGeom>
          <a:ln w="0">
            <a:noFill/>
          </a:ln>
        </p:spPr>
      </p:pic>
      <p:pic>
        <p:nvPicPr>
          <p:cNvPr id="53" name="rg_hi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81480" y="2133720"/>
            <a:ext cx="2656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a002a"/>
            </a:gs>
            <a:gs pos="50000">
              <a:srgbClr val="ffffff"/>
            </a:gs>
            <a:gs pos="100000">
              <a:srgbClr val="da002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ch bin einkaufen gegang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rg_hi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2514600"/>
            <a:ext cx="2895480" cy="1927080"/>
          </a:xfrm>
          <a:prstGeom prst="rect">
            <a:avLst/>
          </a:prstGeom>
          <a:ln w="0">
            <a:noFill/>
          </a:ln>
        </p:spPr>
      </p:pic>
      <p:pic>
        <p:nvPicPr>
          <p:cNvPr id="56" name="rg_hi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76920" y="2590920"/>
            <a:ext cx="2666880" cy="18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bin in Water Tower gegang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50000">
              <a:srgbClr val="ffff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ch bin in John Hancock Building gegan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g_hi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1480" y="2057400"/>
            <a:ext cx="1940040" cy="2590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143000" y="2286000"/>
            <a:ext cx="320040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ch habe im resturant gegess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rg_hi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2362320"/>
            <a:ext cx="2971800" cy="2047680"/>
          </a:xfrm>
          <a:prstGeom prst="rect">
            <a:avLst/>
          </a:prstGeom>
          <a:ln w="0">
            <a:noFill/>
          </a:ln>
        </p:spPr>
      </p:pic>
      <p:pic>
        <p:nvPicPr>
          <p:cNvPr id="64" name="rg_hi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76920" y="2438280"/>
            <a:ext cx="281916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7:14:11Z</dcterms:created>
  <dc:creator>CUSD220</dc:creator>
  <dc:description/>
  <dc:language>en-US</dc:language>
  <cp:lastModifiedBy>CUSD220</cp:lastModifiedBy>
  <dcterms:modified xsi:type="dcterms:W3CDTF">2011-11-22T13:21:42Z</dcterms:modified>
  <cp:revision>4</cp:revision>
  <dc:subject/>
  <dc:title>Meine Ferien </dc:title>
</cp:coreProperties>
</file>